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2344-C0AE-45F1-BB88-794D546DB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C441-D301-4F99-9C60-5E69FA9C2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4D23-A0BA-42C7-AE73-E680969CB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87A2-3CF4-43C3-B831-B890CBE42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1B0E-4C4B-4BE7-A49B-914F91C51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0AEE-95A8-416A-A062-200E7355F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6178-11DE-46DE-8D47-26CBD6B06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F4EF-895D-49B8-891E-5DCE07BDD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17F5-205D-421F-A9B3-5FAFFC8A4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2B81-0588-44EA-9736-AC48CC763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BA29-2AC4-42D9-BA25-9AF7E6244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E5D6-6B2A-4A13-B594-0D6D3034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13CF-9CC8-436D-A9C1-D600A745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057-9BD2-4888-A62E-3E31918D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91DB-F1C4-4D34-82DF-DEA1CDDA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D68D-85AF-445A-8574-D9DA81D4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8425-8109-4399-B1E9-88AA0B58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5DDB-8D46-4D6A-B801-F1031415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AE93-9941-4028-9187-CD8A4149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9BA1-A569-411F-95EC-FD359A23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1978-9362-49CE-A45A-4CC7C6E2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1B7A-5260-4448-94AF-3726E088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54D3-D58B-4E45-B1BA-061CC516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ff6b"/>
            </a:gs>
            <a:gs pos="100000">
              <a:srgbClr val="a220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56C7-57DC-4C32-90BA-4FDE6C88E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0"/>
            <a:ext cx="9144000" cy="1445040"/>
          </a:xfrm>
          <a:prstGeom prst="rect">
            <a:avLst/>
          </a:prstGeom>
          <a:solidFill>
            <a:srgbClr val="1705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wton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 3rd L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412-4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587520" y="1447920"/>
            <a:ext cx="7978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Rocket Launch"/>
          <p:cNvPicPr/>
          <p:nvPr/>
        </p:nvPicPr>
        <p:blipFill>
          <a:blip r:embed="rId1"/>
          <a:stretch/>
        </p:blipFill>
        <p:spPr>
          <a:xfrm>
            <a:off x="0" y="1752480"/>
            <a:ext cx="4044960" cy="51055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ven the action force, identify the reaction forc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0" y="1219320"/>
            <a:ext cx="2743200" cy="581400"/>
          </a:xfrm>
          <a:prstGeom prst="rect">
            <a:avLst/>
          </a:prstGeom>
          <a:solidFill>
            <a:srgbClr val="170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70b"/>
                </a:solidFill>
                <a:latin typeface="Arial"/>
              </a:rPr>
              <a:t>Rocket- p 4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114800" y="1295280"/>
            <a:ext cx="2057400" cy="642600"/>
          </a:xfrm>
          <a:prstGeom prst="rect">
            <a:avLst/>
          </a:prstGeom>
          <a:solidFill>
            <a:srgbClr val="ed3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114800" y="1905120"/>
            <a:ext cx="5029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170599"/>
                </a:solidFill>
                <a:latin typeface="Arial"/>
              </a:rPr>
              <a:t>rock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shes </a:t>
            </a:r>
            <a:r>
              <a:rPr b="0" lang="en-US" sz="3200" spc="-1" strike="noStrike">
                <a:solidFill>
                  <a:srgbClr val="170599"/>
                </a:solidFill>
                <a:latin typeface="Arial"/>
              </a:rPr>
              <a:t>hot g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ckwards (from the combustion chamber through the nozz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114800" y="4038480"/>
            <a:ext cx="2743200" cy="642600"/>
          </a:xfrm>
          <a:prstGeom prst="rect">
            <a:avLst/>
          </a:prstGeom>
          <a:solidFill>
            <a:srgbClr val="ed3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114800" y="481644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170599"/>
                </a:solidFill>
                <a:latin typeface="Arial"/>
              </a:rPr>
              <a:t>hot g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sh the </a:t>
            </a:r>
            <a:r>
              <a:rPr b="0" lang="en-US" sz="3200" spc="-1" strike="noStrike">
                <a:solidFill>
                  <a:srgbClr val="170599"/>
                </a:solidFill>
                <a:latin typeface="Arial"/>
              </a:rPr>
              <a:t>rock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ward (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.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 is a property of all moving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ovement along a straight line, momentum is calculated by multiplying an object’s _____ and ________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mentum = mass x vel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 = 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1219320" y="19051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oment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3124080" y="3962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5257800" y="39625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el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omentum = mass x velocity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 = mv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entum is expressed in 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Wingdings"/>
              </a:rPr>
              <a:t>Like velocity, momentum has _______. An object’s momentum and velocity are in the same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6172200" y="1905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g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Wingdings"/>
              </a:rPr>
              <a:t>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6400800" y="2514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Wingdings"/>
              </a:rPr>
              <a:t>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sosceles Triangle 3"/>
          <p:cNvSpPr/>
          <p:nvPr/>
        </p:nvSpPr>
        <p:spPr>
          <a:xfrm>
            <a:off x="3124080" y="4267080"/>
            <a:ext cx="3048120" cy="1981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5"/>
          <p:cNvSpPr/>
          <p:nvPr/>
        </p:nvSpPr>
        <p:spPr>
          <a:xfrm>
            <a:off x="3886200" y="5257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7"/>
          <p:cNvSpPr/>
          <p:nvPr/>
        </p:nvSpPr>
        <p:spPr>
          <a:xfrm flipV="1">
            <a:off x="4648320" y="5257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42670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3733920" y="5562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4724280" y="556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r the mass of an object, the ________ the momentum of th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a tractor trailer truck has much more momentum than a sports car moving at the same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5118120" cy="3086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3962520" y="3962520"/>
            <a:ext cx="5003640" cy="18414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"/>
          <p:cNvSpPr/>
          <p:nvPr/>
        </p:nvSpPr>
        <p:spPr>
          <a:xfrm>
            <a:off x="1066680" y="1066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e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aster an object is the ________ the momentum of the objec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4647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an object is not moving its momentum is 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991040" cy="2514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756160" cy="30099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"/>
          <p:cNvSpPr/>
          <p:nvPr/>
        </p:nvSpPr>
        <p:spPr>
          <a:xfrm>
            <a:off x="6324480" y="228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grea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5334120" y="51814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Practic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alculat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ment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____ kg speed skater moving forward at ____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 = m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75 kg)(16 m/s) = 1,200 kg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Wingdings"/>
              </a:rPr>
              <a:t>m/s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685800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7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6553080" y="24382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5800" y="3049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alculat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ment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____ kg ostrich running north at _____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 = m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135 kg)(16.2m/s) = 2,190 kg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Wingdings"/>
              </a:rPr>
              <a:t>m/s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748400" cy="35812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"/>
          <p:cNvSpPr/>
          <p:nvPr/>
        </p:nvSpPr>
        <p:spPr>
          <a:xfrm>
            <a:off x="6781680" y="2286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3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5029200" y="762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6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3049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Calculat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ment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____ kg passenger seated on a train that is 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 = m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48.5 kg)(0 m/s) = 0 kg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Wingdings"/>
              </a:rPr>
              <a:t>m/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1447920" y="3124080"/>
            <a:ext cx="5790960" cy="34768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"/>
          <p:cNvSpPr/>
          <p:nvPr/>
        </p:nvSpPr>
        <p:spPr>
          <a:xfrm>
            <a:off x="6781680" y="3049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8.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990720" y="12193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o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85800" y="228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Calculat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loc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____ kg kitten with a forward momentum of     ____ kg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Wingdings"/>
              </a:rPr>
              <a:t>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Wingdings"/>
              </a:rPr>
              <a:t>v = p/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Wingdings"/>
              </a:rPr>
              <a:t>= (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Wingdings"/>
              </a:rPr>
              <a:t>m/s)/(0.8 kg) = 6m/s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2819520" y="2743200"/>
            <a:ext cx="4744800" cy="35942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"/>
          <p:cNvSpPr/>
          <p:nvPr/>
        </p:nvSpPr>
        <p:spPr>
          <a:xfrm>
            <a:off x="6095880" y="228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.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990720" y="1143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. Conservation of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oving object hits a second object, some or all of the momentum of the first object is ___________ to the second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tal momentum of two or more objects after a collision is the _____ as it was before the coll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4191120" y="2895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nsfer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6400800" y="4495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to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 3rd law of mo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28600" y="12193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ces always occur i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a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28600" y="2133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every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c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orce…there is an </a:t>
            </a:r>
            <a:r>
              <a:rPr b="0" lang="en-US" sz="3600" spc="-1" strike="noStrike">
                <a:solidFill>
                  <a:srgbClr val="8b0f11"/>
                </a:solidFill>
                <a:latin typeface="Arial"/>
              </a:rPr>
              <a:t>equ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600" spc="-1" strike="noStrike">
                <a:solidFill>
                  <a:srgbClr val="8b0f11"/>
                </a:solidFill>
                <a:latin typeface="Arial"/>
              </a:rPr>
              <a:t>opposi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ac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o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04920" y="34290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ces in a force pair do not act on the same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04920" y="487692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qual forces do not always have equal eff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u2l4a1"/>
          <p:cNvPicPr/>
          <p:nvPr/>
        </p:nvPicPr>
        <p:blipFill>
          <a:blip r:embed="rId1"/>
          <a:stretch/>
        </p:blipFill>
        <p:spPr>
          <a:xfrm>
            <a:off x="6019920" y="4602240"/>
            <a:ext cx="2895480" cy="2022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u2l4a2"/>
          <p:cNvPicPr/>
          <p:nvPr/>
        </p:nvPicPr>
        <p:blipFill>
          <a:blip r:embed="rId2"/>
          <a:srcRect l="24477" t="0" r="0" b="0"/>
          <a:stretch/>
        </p:blipFill>
        <p:spPr>
          <a:xfrm>
            <a:off x="6934320" y="152280"/>
            <a:ext cx="121896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228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. Imagine hitting a billiard ball with a cue ball so that the billiard ball starts moving. During the collision, the cue ball transfers some of its momentum to the billiard 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e ball hits the billiard ball with a force – the _______ force. The equal but opposite force exerted by the billiard ball on the cue ball is the ________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7543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"/>
          <p:cNvSpPr/>
          <p:nvPr/>
        </p:nvSpPr>
        <p:spPr>
          <a:xfrm>
            <a:off x="1752480" y="23623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2666880" y="3200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Law of Conservation of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 of conservation of momentum state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total amount of momentum in an isolated system is con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ime two or more objects interact, they may exchange momentum, but the total momentum of the system stays the 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1295280" y="49528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walking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5961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1295280" y="4800600"/>
            <a:ext cx="2438640" cy="1191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b0f11"/>
                </a:solidFill>
                <a:latin typeface="Arial"/>
              </a:rPr>
              <a:t>ACTION FO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5181480" y="5334120"/>
            <a:ext cx="2743200" cy="1191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b0f11"/>
                </a:solidFill>
                <a:latin typeface="Arial"/>
              </a:rPr>
              <a:t>REACTION FO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105520" y="30492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b0f11"/>
                </a:solidFill>
                <a:latin typeface="Arial"/>
              </a:rPr>
              <a:t>Also applies to skateboards… cars…etc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838080" y="533520"/>
            <a:ext cx="1600200" cy="1130040"/>
          </a:xfrm>
          <a:prstGeom prst="rect">
            <a:avLst/>
          </a:prstGeom>
          <a:solidFill>
            <a:srgbClr val="e6e7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1d20"/>
                </a:solidFill>
                <a:latin typeface="Arial"/>
              </a:rPr>
              <a:t>EX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swim"/>
          <p:cNvPicPr/>
          <p:nvPr/>
        </p:nvPicPr>
        <p:blipFill>
          <a:blip r:embed="rId1"/>
          <a:stretch/>
        </p:blipFill>
        <p:spPr>
          <a:xfrm>
            <a:off x="4419720" y="0"/>
            <a:ext cx="439236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304920" y="1219320"/>
            <a:ext cx="4114800" cy="2043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b0f11"/>
                </a:solidFill>
                <a:latin typeface="Arial"/>
              </a:rPr>
              <a:t>Swimmer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ushes backward</a:t>
            </a:r>
            <a:r>
              <a:rPr b="0" lang="en-US" sz="3200" spc="-1" strike="noStrike">
                <a:solidFill>
                  <a:srgbClr val="8b0f11"/>
                </a:solidFill>
                <a:latin typeface="Arial"/>
              </a:rPr>
              <a:t> on wall…wall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ushes forward</a:t>
            </a:r>
            <a:r>
              <a:rPr b="0" lang="en-US" sz="3200" spc="-1" strike="noStrike">
                <a:solidFill>
                  <a:srgbClr val="8b0f11"/>
                </a:solidFill>
                <a:latin typeface="Arial"/>
              </a:rPr>
              <a:t> on swi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304920" y="4038480"/>
            <a:ext cx="4124160" cy="2043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b0f11"/>
                </a:solidFill>
                <a:latin typeface="Arial"/>
              </a:rPr>
              <a:t>Swimmer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ushes backward</a:t>
            </a:r>
            <a:r>
              <a:rPr b="0" lang="en-US" sz="3200" spc="-1" strike="noStrike">
                <a:solidFill>
                  <a:srgbClr val="8b0f11"/>
                </a:solidFill>
                <a:latin typeface="Arial"/>
              </a:rPr>
              <a:t> on water…water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ushes forward</a:t>
            </a:r>
            <a:r>
              <a:rPr b="0" lang="en-US" sz="3200" spc="-1" strike="noStrike">
                <a:solidFill>
                  <a:srgbClr val="8b0f11"/>
                </a:solidFill>
                <a:latin typeface="Arial"/>
              </a:rPr>
              <a:t> on swi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228600" y="228600"/>
            <a:ext cx="1600200" cy="1130040"/>
          </a:xfrm>
          <a:prstGeom prst="rect">
            <a:avLst/>
          </a:prstGeom>
          <a:solidFill>
            <a:srgbClr val="e6e7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1d20"/>
                </a:solidFill>
                <a:latin typeface="Arial"/>
              </a:rPr>
              <a:t>EX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1720"/>
          <p:cNvPicPr/>
          <p:nvPr/>
        </p:nvPicPr>
        <p:blipFill>
          <a:blip r:embed="rId1"/>
          <a:stretch/>
        </p:blipFill>
        <p:spPr>
          <a:xfrm>
            <a:off x="228600" y="1905120"/>
            <a:ext cx="3586320" cy="3886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304920" y="20574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70b"/>
                </a:solidFill>
                <a:latin typeface="Arial"/>
              </a:rPr>
              <a:t>Bird f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ven the action force, identify the reaction forc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3962520" y="1295280"/>
            <a:ext cx="2057400" cy="642600"/>
          </a:xfrm>
          <a:prstGeom prst="rect">
            <a:avLst/>
          </a:prstGeom>
          <a:solidFill>
            <a:srgbClr val="ed3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3962520" y="4114800"/>
            <a:ext cx="2743200" cy="642600"/>
          </a:xfrm>
          <a:prstGeom prst="rect">
            <a:avLst/>
          </a:prstGeom>
          <a:solidFill>
            <a:srgbClr val="ed3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4038480" y="205740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170599"/>
                </a:solidFill>
                <a:latin typeface="Arial"/>
              </a:rPr>
              <a:t>w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bird pushes the </a:t>
            </a:r>
            <a:r>
              <a:rPr b="0" lang="en-US" sz="3600" spc="-1" strike="noStrike">
                <a:solidFill>
                  <a:srgbClr val="170599"/>
                </a:solidFill>
                <a:latin typeface="Arial"/>
              </a:rPr>
              <a:t>ai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ownwar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4038480" y="487692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170599"/>
                </a:solidFill>
                <a:latin typeface="Arial"/>
              </a:rPr>
              <a:t>ai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shes the </a:t>
            </a:r>
            <a:r>
              <a:rPr b="0" lang="en-US" sz="3600" spc="-1" strike="noStrike">
                <a:solidFill>
                  <a:srgbClr val="170599"/>
                </a:solidFill>
                <a:latin typeface="Arial"/>
              </a:rPr>
              <a:t>w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bird upwar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ven the action force, identify the reaction forc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rifle"/>
          <p:cNvPicPr/>
          <p:nvPr/>
        </p:nvPicPr>
        <p:blipFill>
          <a:blip r:embed="rId1"/>
          <a:stretch/>
        </p:blipFill>
        <p:spPr>
          <a:xfrm>
            <a:off x="0" y="3276720"/>
            <a:ext cx="1905120" cy="1339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u2l4a7"/>
          <p:cNvPicPr/>
          <p:nvPr/>
        </p:nvPicPr>
        <p:blipFill>
          <a:blip r:embed="rId2"/>
          <a:stretch/>
        </p:blipFill>
        <p:spPr>
          <a:xfrm>
            <a:off x="2057400" y="205740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52280" y="1219320"/>
            <a:ext cx="2362320" cy="581400"/>
          </a:xfrm>
          <a:prstGeom prst="rect">
            <a:avLst/>
          </a:prstGeom>
          <a:solidFill>
            <a:srgbClr val="1cc6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ing a rif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4572000" y="1371600"/>
            <a:ext cx="2057400" cy="642600"/>
          </a:xfrm>
          <a:prstGeom prst="rect">
            <a:avLst/>
          </a:prstGeom>
          <a:solidFill>
            <a:srgbClr val="ed3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4495680" y="213372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170599"/>
                </a:solidFill>
                <a:latin typeface="Arial"/>
              </a:rPr>
              <a:t>hot ga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ushes forward on the </a:t>
            </a:r>
            <a:r>
              <a:rPr b="0" lang="en-US" sz="3600" spc="-1" strike="noStrike">
                <a:solidFill>
                  <a:srgbClr val="170599"/>
                </a:solidFill>
                <a:latin typeface="Arial"/>
              </a:rPr>
              <a:t>bul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4572000" y="3809880"/>
            <a:ext cx="2743200" cy="642600"/>
          </a:xfrm>
          <a:prstGeom prst="rect">
            <a:avLst/>
          </a:prstGeom>
          <a:solidFill>
            <a:srgbClr val="ed3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4648320" y="449568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170599"/>
                </a:solidFill>
                <a:latin typeface="Arial"/>
              </a:rPr>
              <a:t>bulle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ushes backwards on the </a:t>
            </a:r>
            <a:r>
              <a:rPr b="0" lang="en-US" sz="3600" spc="-1" strike="noStrike">
                <a:solidFill>
                  <a:srgbClr val="170599"/>
                </a:solidFill>
                <a:latin typeface="Arial"/>
              </a:rPr>
              <a:t>hot ga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which in turn pushes the rif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0" y="480060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unpowder explosion creates a hot gas that expands out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7" descr="cannon"/>
          <p:cNvPicPr/>
          <p:nvPr/>
        </p:nvPicPr>
        <p:blipFill>
          <a:blip r:embed="rId3"/>
          <a:stretch/>
        </p:blipFill>
        <p:spPr>
          <a:xfrm>
            <a:off x="1219320" y="14400"/>
            <a:ext cx="7315200" cy="690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Hose"/>
          <p:cNvPicPr/>
          <p:nvPr/>
        </p:nvPicPr>
        <p:blipFill>
          <a:blip r:embed="rId1"/>
          <a:stretch/>
        </p:blipFill>
        <p:spPr>
          <a:xfrm>
            <a:off x="228600" y="380880"/>
            <a:ext cx="4267080" cy="2881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178981907_d653f03113"/>
          <p:cNvPicPr/>
          <p:nvPr/>
        </p:nvPicPr>
        <p:blipFill>
          <a:blip r:embed="rId2"/>
          <a:stretch/>
        </p:blipFill>
        <p:spPr>
          <a:xfrm>
            <a:off x="3962520" y="3581280"/>
            <a:ext cx="4546440" cy="302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u2l4a5"/>
          <p:cNvPicPr/>
          <p:nvPr/>
        </p:nvPicPr>
        <p:blipFill>
          <a:blip r:embed="rId1"/>
          <a:stretch/>
        </p:blipFill>
        <p:spPr>
          <a:xfrm>
            <a:off x="1066680" y="3733920"/>
            <a:ext cx="3505320" cy="2739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newtonthirdlaw"/>
          <p:cNvPicPr/>
          <p:nvPr/>
        </p:nvPicPr>
        <p:blipFill>
          <a:blip r:embed="rId2"/>
          <a:stretch/>
        </p:blipFill>
        <p:spPr>
          <a:xfrm>
            <a:off x="1981080" y="228600"/>
            <a:ext cx="4175280" cy="3129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balanced-forces"/>
          <p:cNvPicPr/>
          <p:nvPr/>
        </p:nvPicPr>
        <p:blipFill>
          <a:blip r:embed="rId3"/>
          <a:stretch/>
        </p:blipFill>
        <p:spPr>
          <a:xfrm>
            <a:off x="5486400" y="2971800"/>
            <a:ext cx="31114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image059"/>
          <p:cNvPicPr/>
          <p:nvPr/>
        </p:nvPicPr>
        <p:blipFill>
          <a:blip r:embed="rId1"/>
          <a:stretch/>
        </p:blipFill>
        <p:spPr>
          <a:xfrm>
            <a:off x="1752480" y="0"/>
            <a:ext cx="576576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HorseCart1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466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8T20:16:52Z</dcterms:created>
  <dc:creator>Sarah Sewatsky User</dc:creator>
  <dc:description/>
  <dc:language>en-US</dc:language>
  <cp:lastModifiedBy>Jillian Boisse</cp:lastModifiedBy>
  <cp:lastPrinted>2012-03-08T15:34:35Z</cp:lastPrinted>
  <dcterms:modified xsi:type="dcterms:W3CDTF">2013-03-04T13:41:01Z</dcterms:modified>
  <cp:revision>59</cp:revision>
  <dc:subject/>
  <dc:title>PowerPoint Presentation</dc:title>
</cp:coreProperties>
</file>